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688994"/>
        <c:axId val="38403518"/>
      </c:barChart>
      <c:catAx>
        <c:axId val="416889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403518"/>
        <c:crosses val="autoZero"/>
        <c:auto val="1"/>
        <c:lblAlgn val="ctr"/>
        <c:lblOffset val="100"/>
        <c:noMultiLvlLbl val="0"/>
      </c:catAx>
      <c:valAx>
        <c:axId val="384035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6889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8F3E-88BB-48AA-A876-2C10387BB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DC19-34BC-4EB7-8510-A4D14F190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39A5-5EB6-4F6A-B812-A6A9DD0B8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9E16-58A0-4428-B888-513934BAA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DA1D-E06C-492A-8CEB-15B1F2D8E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E146-70D5-4752-93E1-F04A06509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911C-6E19-4BBF-967E-3C5ABF4EE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937D-BBC1-4181-8D7A-C21274849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1355-BE46-4C3D-B30C-E3EFA5F1A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A8D7-27AE-4D60-BE63-DC8CC8E4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1D84-8DAB-4803-8317-78B8D035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578F-93B9-4DEC-BB29-8D864A7A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60F2F8-53B2-46C1-80B9-8AFBC2A60BF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