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5978"/>
        <c:axId val="6315028"/>
      </c:barChart>
      <c:catAx>
        <c:axId val="474597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15028"/>
        <c:crosses val="autoZero"/>
        <c:auto val="1"/>
        <c:lblAlgn val="ctr"/>
        <c:lblOffset val="100"/>
        <c:noMultiLvlLbl val="0"/>
      </c:catAx>
      <c:valAx>
        <c:axId val="63150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597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D1377-FE81-4B1D-9AFF-694DB06CA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0549A-190A-477B-B7F5-410C2A3EC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4CD8-6887-47B2-8D2D-43416B7F6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D6918-35FB-4825-834F-6645FE42C6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FC68E-EC4F-4BB8-B38D-FDF45CB87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4C50-FEDC-431E-B2C4-5BA082882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1143-6612-49D1-9E8C-8ED8405EA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1966-1F4B-4EC1-AC16-FD5E14128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16A1-8258-4286-9587-BB3F3A838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7C267-5802-44F8-B1D1-C837694A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BDAFE-AB2D-4B2B-B953-9A13D88B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A44-6FB5-44C5-BD4E-FC16F019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493584-3898-407A-AFB6-F8B3D531F2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